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23C-F9D8-4154-BE9A-27AA253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979-BDFF-4CCE-8B11-91F629B3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120-46D1-45A3-B39A-D0B20158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281-B68D-4A8F-B4F9-DCBC9AEA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847-214D-43B4-AEE2-7AAB6022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5F7-E859-4CAE-9128-D03945D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8FA-94A0-493D-8009-69F1A42B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EB4-D6C1-4538-BCE4-71A7C60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5095-D98E-4BE4-BC63-C1E861A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FEB-D3CF-445E-A133-EC3E0EB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6754-EE0F-42CB-B199-E75A0F2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B19-7256-4F94-9E50-D438F2E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A42-4577-4A80-85FC-59C5E95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F584-151F-447E-B02B-E76B720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2FF1-B2D4-432D-ADB9-E047905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FC4-B39D-44CE-B58C-37251C31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DA14-FB5A-426E-8B58-FD9FE14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A9F-D2C1-4AC2-83A7-6AF1B65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32C-622C-41C9-89B2-DDD8E63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247-93C5-4E71-B7A2-4680C326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8C4-D5A7-49C0-8DBE-7B7ED4E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056-2F06-4BAA-B245-B398680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C6F-0DB9-429C-8FBC-BA847BA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5E6-D4AF-4A19-8B56-62CF295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EFED-07C7-41CC-B6AB-94DB7C617D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6F56-0C79-413C-B253-769A5BCDF3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864E9082-9065-4CCE-857D-802C429616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928800" y="2224080"/>
            <a:ext cx="73580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δελφη λεγει τῳ Ἰησου∙ Κυριε, πιστευ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ω τα ἐργα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τον υἱον και λαλει αὐ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ομεν και τηρου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βιβλια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λεγει τῳ Ἰησου∙ Δαιμονιον ἐχ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ε, διδασκει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27554124-3ADD-42A4-BF0D-5EE7BACD2A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000080" y="1625760"/>
            <a:ext cx="735804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 ἀδελφαι και οἱ ἀδελφοι τηρουσι τους νομους και το σαββα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σαββατον τηρει ὁ υἱος του ἀνθρωπ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church is seeking the glory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teaches the househol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s and sisters, you (pl.) are receiving the love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ildren are throwing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928800" y="2224080"/>
            <a:ext cx="7500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αὐτοις τον λογον ὁ Ἰησ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τεκνα λυει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Μαρια ἀκουει την φωνην της θαλασσ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ομεν τα σημεια του εὐαγγελιου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ων ἐστ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βασιλεια των οὐραν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ἀγαπη του θεου καλει τας ψυχα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000080" y="1625760"/>
            <a:ext cx="73580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ας ἡμερας και τας ὡρας της ζω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ιτε την δοξαν του προσωπου του θε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receives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, do you believe the angel of the L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making the bread of the te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see the sins of the he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000240" y="1609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42960" y="2500200"/>
            <a:ext cx="8143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ὴ τοῦ εὐαγγελί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ησοῦ Χριστοῦ υἱοῦ θε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2:13:19Z</dcterms:created>
  <dc:creator>Sarah</dc:creator>
  <dc:description/>
  <dc:language>en-US</dc:language>
  <cp:lastModifiedBy>Sarah</cp:lastModifiedBy>
  <dcterms:modified xsi:type="dcterms:W3CDTF">2009-07-09T17:31:25Z</dcterms:modified>
  <cp:revision>17</cp:revision>
  <dc:subject/>
  <dc:title>Slide 1</dc:title>
</cp:coreProperties>
</file>